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11.png" ContentType="image/png"/>
  <Override PartName="/ppt/media/image6.wmf" ContentType="image/x-wmf"/>
  <Override PartName="/ppt/media/image19.wmf" ContentType="image/x-wmf"/>
  <Override PartName="/ppt/media/image9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0.png" ContentType="image/png"/>
  <Override PartName="/ppt/media/image2.jpeg" ContentType="image/jpeg"/>
  <Override PartName="/ppt/media/image1.jpeg" ContentType="image/jpeg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A86-CEF9-4441-8551-B1897524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B59-28A0-477B-9B02-FDD561E4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AB7-7D82-4F25-A1A5-8ECFA902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59B-216B-463F-AF79-302D54B1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C83-1620-449F-931D-ECA2386C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6FB-D771-4A17-95C8-6BEB2422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13F-0538-4C66-8563-9D59FED8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245-DCEF-4F65-B0BB-CA7280AE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022-F62F-4ECF-B110-623FDDBC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5DE-F48D-4D4E-8CDD-EE85746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8B0-6822-4ED6-83BF-3981C3EA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CE5-7A2F-4A86-8120-91CC867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6FF8-A5BF-4E5D-A194-71D0DA169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56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63640" y="2276640"/>
            <a:ext cx="5545080" cy="28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57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扇形的认识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4" descr=""/>
          <p:cNvPicPr/>
          <p:nvPr/>
        </p:nvPicPr>
        <p:blipFill>
          <a:blip r:embed="rId1"/>
          <a:stretch/>
        </p:blipFill>
        <p:spPr>
          <a:xfrm>
            <a:off x="36360" y="117360"/>
            <a:ext cx="4896000" cy="2440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2"/>
          <a:stretch/>
        </p:blipFill>
        <p:spPr>
          <a:xfrm>
            <a:off x="3924360" y="2925720"/>
            <a:ext cx="4411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1736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求出下面图形阴影部分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1908000" y="1557360"/>
            <a:ext cx="4464000" cy="4033800"/>
            <a:chOff x="1908000" y="1557360"/>
            <a:chExt cx="4464000" cy="4033800"/>
          </a:xfrm>
        </p:grpSpPr>
        <p:pic>
          <p:nvPicPr>
            <p:cNvPr id="125" name="Picture 9" descr="图片3"/>
            <p:cNvPicPr/>
            <p:nvPr/>
          </p:nvPicPr>
          <p:blipFill>
            <a:blip r:embed="rId1"/>
            <a:stretch/>
          </p:blipFill>
          <p:spPr>
            <a:xfrm>
              <a:off x="2575080" y="1557360"/>
              <a:ext cx="3796920" cy="40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Line 10"/>
            <p:cNvSpPr/>
            <p:nvPr/>
          </p:nvSpPr>
          <p:spPr>
            <a:xfrm>
              <a:off x="2048040" y="1594080"/>
              <a:ext cx="41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2048040" y="5552280"/>
              <a:ext cx="41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2048040" y="2609280"/>
              <a:ext cx="41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2256840" y="1594080"/>
              <a:ext cx="0" cy="29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2256840" y="2616480"/>
              <a:ext cx="0" cy="10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2256840" y="225900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2256840" y="4407120"/>
              <a:ext cx="0" cy="11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1908000" y="1557360"/>
              <a:ext cx="654480" cy="7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>
              <a:off x="1908000" y="3407040"/>
              <a:ext cx="6544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" y="0"/>
            <a:ext cx="892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判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弧是圆上任意两点之间的线段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(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圆心角大的扇形面积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顶点在圆心的角是圆心角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(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半径大的扇形面积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半圆也是一个扇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圆心角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扇形的面积是它所在圆的面积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/8.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06200" y="5589720"/>
            <a:ext cx="914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圆心角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扇形的面积比圆心角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5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扇形面积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     (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13360" y="3321000"/>
                <a:ext cx="91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47628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、解答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已知扇形的圆心角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半径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，求这个扇形的周长和面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半径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的圆与圆心角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扇形面积相等，求扇形的半径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2560" y="476280"/>
            <a:ext cx="20970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学以致用</a:t>
            </a:r>
            <a:endParaRPr b="0" lang="en-US" sz="40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682560" y="153684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画一个半径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圆，并在圆中画一个圆心角为       的扇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492360" y="2133720"/>
                <a:ext cx="1030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682560" y="284472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求下列各图的阴影部分的面积和周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00720" y="3645000"/>
                <a:ext cx="2770200" cy="25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60360" y="3573360"/>
                <a:ext cx="27370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068720" y="2708280"/>
            <a:ext cx="4032000" cy="3096720"/>
            <a:chOff x="4068720" y="2708280"/>
            <a:chExt cx="4032000" cy="3096720"/>
          </a:xfrm>
        </p:grpSpPr>
        <p:graphicFrame>
          <p:nvGraphicFramePr>
            <p:cNvPr id="146" name=""/>
            <p:cNvGraphicFramePr/>
            <p:nvPr/>
          </p:nvGraphicFramePr>
          <p:xfrm>
            <a:off x="4068720" y="2708280"/>
            <a:ext cx="2751480" cy="53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8720" y="2708280"/>
                      <a:ext cx="2751480" cy="53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4614480" y="3120840"/>
                  <a:ext cx="2447280" cy="93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解：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大圆</m:t>
                          </m:r>
                        </m:sub>
                      </m:sSub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小圆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612680" y="3882960"/>
                  <a:ext cx="3488040" cy="192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4360" y="1917720"/>
                <a:ext cx="302256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3348000" y="431640"/>
            <a:ext cx="4464000" cy="2277720"/>
            <a:chOff x="3348000" y="431640"/>
            <a:chExt cx="4464000" cy="227772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3348000" y="431640"/>
                  <a:ext cx="4023000" cy="94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π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600440" y="1303560"/>
                  <a:ext cx="3211560" cy="93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4600440" y="2281680"/>
                  <a:ext cx="1485720" cy="42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小圆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大圆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" name=""/>
          <p:cNvGrpSpPr/>
          <p:nvPr/>
        </p:nvGrpSpPr>
        <p:grpSpPr>
          <a:xfrm>
            <a:off x="612720" y="5864400"/>
            <a:ext cx="8352000" cy="581400"/>
            <a:chOff x="612720" y="5864400"/>
            <a:chExt cx="8352000" cy="581400"/>
          </a:xfrm>
        </p:grpSpPr>
        <p:sp>
          <p:nvSpPr>
            <p:cNvPr id="156" name=""/>
            <p:cNvSpPr/>
            <p:nvPr/>
          </p:nvSpPr>
          <p:spPr>
            <a:xfrm>
              <a:off x="612720" y="5864400"/>
              <a:ext cx="835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答：阴影部分面积为            周长为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4283640" y="5877720"/>
                  <a:ext cx="1436760" cy="50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=</m:t>
                          </m:r>
                          <m:r>
                            <m:t xml:space="preserve">π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π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π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876000" y="5877000"/>
                  <a:ext cx="1439640" cy="52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26920" y="496800"/>
                <a:ext cx="2772000" cy="25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4125960" y="476280"/>
            <a:ext cx="4262400" cy="3241440"/>
            <a:chOff x="4125960" y="476280"/>
            <a:chExt cx="4262400" cy="324144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125960" y="476280"/>
                  <a:ext cx="3649680" cy="105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5341320" y="1439280"/>
              <a:ext cx="304704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5341320" y="2315520"/>
              <a:ext cx="1896480" cy="9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5342400" y="3281760"/>
              <a:ext cx="910080" cy="43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395280" y="3139920"/>
            <a:ext cx="6119640" cy="3600360"/>
            <a:chOff x="395280" y="3139920"/>
            <a:chExt cx="6119640" cy="3600360"/>
          </a:xfrm>
        </p:grpSpPr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395280" y="3139920"/>
              <a:ext cx="3961080" cy="9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5"/>
            <a:stretch/>
          </p:blipFill>
          <p:spPr>
            <a:xfrm>
              <a:off x="897840" y="3967560"/>
              <a:ext cx="5617080" cy="27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3564000" y="5081760"/>
            <a:ext cx="5024160" cy="1401120"/>
            <a:chOff x="3564000" y="5081760"/>
            <a:chExt cx="5024160" cy="1401120"/>
          </a:xfrm>
        </p:grpSpPr>
        <p:grpSp>
          <p:nvGrpSpPr>
            <p:cNvPr id="169" name=""/>
            <p:cNvGrpSpPr/>
            <p:nvPr/>
          </p:nvGrpSpPr>
          <p:grpSpPr>
            <a:xfrm>
              <a:off x="3564000" y="5081760"/>
              <a:ext cx="4837320" cy="581400"/>
              <a:chOff x="3564000" y="5081760"/>
              <a:chExt cx="4837320" cy="581400"/>
            </a:xfrm>
          </p:grpSpPr>
          <p:sp>
            <p:nvSpPr>
              <p:cNvPr id="170" name=""/>
              <p:cNvSpPr/>
              <p:nvPr/>
            </p:nvSpPr>
            <p:spPr>
              <a:xfrm>
                <a:off x="3564000" y="5081760"/>
                <a:ext cx="4837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答：阴影部分面积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50400" y="5153400"/>
                <a:ext cx="649800" cy="504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2" name=""/>
            <p:cNvSpPr/>
            <p:nvPr/>
          </p:nvSpPr>
          <p:spPr>
            <a:xfrm>
              <a:off x="4356000" y="5658120"/>
              <a:ext cx="42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周长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7"/>
            <a:stretch/>
          </p:blipFill>
          <p:spPr>
            <a:xfrm>
              <a:off x="5580720" y="5518440"/>
              <a:ext cx="1295640" cy="96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79280" y="117360"/>
            <a:ext cx="428472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4429080" y="44280"/>
            <a:ext cx="4608720" cy="343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5807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640" y="911160"/>
            <a:ext cx="280836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宋体"/>
              </a:rPr>
              <a:t>新知讲解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628640"/>
            <a:ext cx="2809800" cy="273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3640" y="1628640"/>
            <a:ext cx="1295280" cy="266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340000" y="1914480"/>
            <a:ext cx="863640" cy="10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3080" y="2997360"/>
            <a:ext cx="7905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292428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27795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e0e3"/>
                </a:solidFill>
                <a:latin typeface="Cambria Math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02120" y="133992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15000" y="1339920"/>
            <a:ext cx="38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上任意两点（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之间的部分叫做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1360" y="3340080"/>
            <a:ext cx="36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作：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00720" y="3357720"/>
                <a:ext cx="759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61680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37160" y="3998880"/>
            <a:ext cx="8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3080" y="4797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扇形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条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经过这条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两端的两条半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的图形叫做扇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347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e0e3"/>
                </a:solidFill>
                <a:latin typeface="Cambria Math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5080" y="4068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e0e3"/>
                </a:solidFill>
                <a:latin typeface="Cambria Math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407664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184464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40000" y="1844640"/>
          <a:ext cx="151128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844640"/>
                    <a:ext cx="1511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333360"/>
            <a:ext cx="23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练习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49320" y="105264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图中涂色的部分，哪些是扇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7856640" cy="1923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55640" y="4076640"/>
                <a:ext cx="77770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（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弧</m:t>
                        </m:r>
                      </m:sub>
                    </m:sSub>
                    <m:r>
                      <m:t xml:space="preserve">）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419640" y="3573360"/>
            <a:ext cx="5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05560" y="3581280"/>
            <a:ext cx="5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28840" y="610092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35812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1720" y="358128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610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6100920"/>
            <a:ext cx="3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6440" y="610092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969840" y="1438200"/>
            <a:ext cx="2810160" cy="3362760"/>
            <a:chOff x="969840" y="1438200"/>
            <a:chExt cx="2810160" cy="3362760"/>
          </a:xfrm>
        </p:grpSpPr>
        <p:sp>
          <p:nvSpPr>
            <p:cNvPr id="81" name=""/>
            <p:cNvSpPr/>
            <p:nvPr/>
          </p:nvSpPr>
          <p:spPr>
            <a:xfrm>
              <a:off x="969840" y="1718640"/>
              <a:ext cx="2810160" cy="273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338200" y="2004120"/>
              <a:ext cx="863640" cy="108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11280" y="3086640"/>
              <a:ext cx="790560" cy="115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38200" y="3013560"/>
              <a:ext cx="7596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06560" y="2869560"/>
              <a:ext cx="5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bbe0e3"/>
                  </a:solidFill>
                  <a:latin typeface="Cambria Math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4920" y="1438200"/>
              <a:ext cx="5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bbe0e3"/>
                  </a:solidFill>
                  <a:latin typeface="Cambria Math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4000" y="4158360"/>
              <a:ext cx="50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bbe0e3"/>
                  </a:solidFill>
                  <a:latin typeface="Cambria Math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30920" y="4165920"/>
              <a:ext cx="7596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30920" y="1934280"/>
              <a:ext cx="7596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 txBox="1"/>
          <p:nvPr/>
        </p:nvSpPr>
        <p:spPr>
          <a:xfrm>
            <a:off x="971640" y="907920"/>
            <a:ext cx="280836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宋体"/>
              </a:rPr>
              <a:t>新知讲解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501640" y="2707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773360"/>
            <a:ext cx="17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心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2340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顶点在圆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角叫做圆心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0" y="3502080"/>
            <a:ext cx="32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心角的组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05440" y="40132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圆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两条半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28760" y="495000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规定：圆心角是锐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333360"/>
            <a:ext cx="23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练习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49320" y="105264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图中哪些角是圆心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7856640" cy="192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05560" y="3581280"/>
            <a:ext cx="5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28840" y="610092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1720" y="358128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610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6100920"/>
            <a:ext cx="3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26440" y="610092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1852560" y="2491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725640" y="2427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391000" y="241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2060000">
            <a:off x="7336440" y="2633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57080" y="4078440"/>
                <a:ext cx="7704360" cy="20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rot="13020000">
            <a:off x="1136160" y="5091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460000">
            <a:off x="3304080" y="502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980000">
            <a:off x="5552280" y="5085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502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7336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33336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画一个半径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厘米并且圆心角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度的扇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60" y="2997360"/>
            <a:ext cx="90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练习：画一个半径为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厘米并且圆心角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度的扇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黑体"/>
              </a:rPr>
              <a:t>在同一个圆中，如果圆心角越大，扇形就越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9440" y="620640"/>
            <a:ext cx="88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黑体"/>
              </a:rPr>
              <a:t>问题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以四分之一圆为弧的扇形的圆心角是多少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问题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以半圆为弧的扇形的圆心角是多少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2360" y="11736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已知扇形的圆心角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20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半径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求这个扇形的周长和面积。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π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取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.1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鑫鑫</dc:creator>
  <dc:description/>
  <dc:language>en-US</dc:language>
  <cp:lastModifiedBy/>
  <dcterms:modified xsi:type="dcterms:W3CDTF">2014-10-29T12:54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